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B81E-375D-4EB3-8F62-FCF4DAD54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8985-2F08-45E4-B508-82C3F26B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C24F-6589-4A89-93DD-CC025698B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BF95-5019-4212-AEFD-48EAAC684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CA983C-310C-4BD2-AE09-1341DFDC0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3CC948-A488-4400-8C1C-6E30ACC0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6DCA3-C4E4-4D00-AD90-4A6A5916A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7AAFB5-F1AA-4FC7-A987-71ACA5ED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E5F13-C29A-4A4E-B55B-C02CA372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863736-E90D-4F6F-94DD-5E3C671D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F1B4F-80C5-4B78-86AA-FE8D8638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C7B7-AD39-42BB-BB40-79462B05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4C5E65-3D01-4A52-8417-A60049A1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F3CC3-D355-40DE-81F2-0D432417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B5F0D-9A4C-4F0E-8B36-E61A3CA6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A3B94E-151B-4CAA-A302-9A2FF485C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5965D0-CD9E-46C0-A6D2-52093929C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57E0-3A5F-41FF-990D-B1A8CB8A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2122-B34C-427C-9F67-E7BD1B2A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1928-E585-473E-99B0-5CA4C7C4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35FA-8BE4-48F0-B1EB-DEA87F5D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F348-D574-42A7-8D3D-C6AC9250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E3B7-4425-489C-93AA-2592C56F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E6A0-7C4B-4E6E-9C2C-1E05AB3B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ED7C-931B-4429-A4EE-961E80132B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F84F-7060-40B5-A426-9B4B27C01A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eb-web.ru/feb/tolstoy/pictures/T01-fron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st.ru/images/it/5000584_b.jpg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hildrenpedia.org/11/9.files/image051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Чувства ,поступки и духовный мир гл .героя в повести Л . Н . Толстого «Детство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495680" y="3428640"/>
            <a:ext cx="4191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удент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илологического факультета ,342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Янкявичюте Диана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3733920" y="6324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Информационные ресурсы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учебники – хрестомат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толковые словари 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ru.wikipedia.org/wiki/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_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олсто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festival.1september.ru/articles/41536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www.tolstoymuseum.ru/live/forkids.htm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Чувства , поступки и духовный мир гл . героя в повести Л . Н . Толстого « Детство»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Мир глазами ребёнка 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Картинка 34 из 90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38680" y="2590920"/>
            <a:ext cx="3143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Основополагающий вопрос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Что побуждает к жизни 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Картинка 20 из 113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4120" y="2743200"/>
            <a:ext cx="3400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Проблемные вопросы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Повесть « Детство» Толстого автобиографична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 .Что запомнилось Николеньке от матери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 .Почему Николенька называет своих родителей на французский лад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 .Какой случай из жизни Николенька запомнил на всю жизнь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 .Какие чувства присущи главному герою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Дидактические цели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Формирование навыков работы в группе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Приобретение навыков самостоятельной работы с большим объёмом информации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Участники проекта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дмет : литерату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чебное пособие : учебник – хрестоматия под редакцией В . Я . Коровиной – 1ч ., Москва «Просвещение» - 2004 г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Результаты представления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Сочинение – эсс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Выставка рисун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Мы будем изучать следующие главы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« Классы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«Наталья Савишн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«Детство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Картинка 4 из 70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19720" y="3276720"/>
            <a:ext cx="446724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Этапы и сроки проведения проек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Самостоятельная работа учащихся по обсуждению задания в каждой группе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Самостоятельная работа групп по выполнению заданий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Подготовка к выставке рисунков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Выводы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0-04-21T04:50:00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